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OS inhibits etoposide-induced apoptosis. Mz-ChA-1 and KMBC cells were transiently transfected with 1 μg/ml GFP and 2 μg/ml of the pcDNA3 expression vector containing iNOS cDNA, or GFP only, using the Lipofectamine method. At 24 h after transfection, 68 μm etoposide and 10 μm quinidine were added. After 48 h of exposure to etoposide, the rate of apoptosis was assessed in transfected (GFP-positive) cells, using the nuclear binding dye DAPI, and fluorescent microscop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 inhibits caspase 9 activation in cells as assessed by caspase catalytic activity (A) and immunoblot analysis (B). A, cytosolic extracts were prepared from Mz-ChA-1 cells as described previously (29) . Caspase activity was measured using DEVD-AMC as fluorogenic substrate. Enzyme activity in control (untreated) cells was set arbitrarily as 1. Treatment of these cells with staurosporine or etoposide/quinidine (both agents induce the mitochondrial apoptotic pathway), caspase activity increased during apoptosis but was reduced during treatment with SNAP. Only quinidine did not induce significant apoptosis. Bars, SD. B, whole-cell lysates were prepared from each experimental condition as described previously (28) . Samples were loaded on 5–15% density gradient polyacrylamide SDS gels. At the end of electrophoresis, transfer of proteins and immunoblotting with specific antibodies detecting the pro-form and the active large subunit of caspases 3 and 9 (Caspase 3 neo. and Caspase 9 neo., respectively) were performed. Immunoblotting for β-actin assured equal loading of the lanes. Note that in the presence of SNAP, the major form of caspase 9 is the inactive pro-form. Sp, staurosporine; Etop, etoposide; Q, quinid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chrome c release from mitochondria is not inhibited by NO. A, Western blot analysis was performed on cytosolic extracts of Mz-ChA-1 cells, after treating cells with 68 μm etoposide or SNAP plus etoposide. Note that NO does not inhibit cytochrome c release. Equal loading of the lanes was assured by blotting for β-actin. Etop, etoposide; Q, quinidine. B, Mz-ChA-1 and KMBC cells were transfected with cytochrome c-GFP. Forty-eight h after transfection, cells were incubated with 1 μm staurosporine, with or without previous incubation in 300 μm SNAP. Cells were stained with DAPI and viewed under confocal microscopy. Apoptosis (arrows, apoptotic nuclei) and cytochrome c release were assessed, and these data demonstrate that NO prevents nuclear fragmentation but not cytochrome c rele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 inhibits caspase 3 and 9 activation in cytosol under cell-free conditions. a, cytosol was prepared as described previously (29) . Cell-free caspase activation reactions (40-μl final volumes) were assembled on ice in 96-well microtiter plates by adding 1 mm ATP, 0.5 μg/μl cytochrome c (at final concentration) to the cytosolic extracts (50 μg of protein). After incubation for the selected time periods, reaction mixtures were harvested for immunoblots to assess caspase 3 and 9 activation. b, SNAP reversibly inhibits caspase 9 activation; 1 unit of human recombinant caspase 9 was incubated in the presence of increasing concentrations of SNAP for 1 h at room temperature. Caspase activity was measured using the fluorogenic substrate LEHD-AMC (caspase 9). In parallel experiments, 5 mm DTT was added to the incubation buffer after SNA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 directly binds to the thiol groups of procaspase 9. Immunoprecipitated procaspase 9 from control and SNAP (300 μm)-exposed Mz-ChA-1 cells was subjected to HgCl2 treatment in a sulfanilamide solution. Background nitrate concentration was deducted by performing a parallel experiment, where HgCl2 was omitted from the sulfanilamide solution. Procaspase 9 immunoprecipitated from SNAP-treated cells released more NO than control cells (0.064 μmol/mg immunoprecipitated protein versus 0.011 μmol/mg immunoprecipitated protein (P &lt; 0.05). The inset shows that equal amounts of procaspase 9 were tested in the SNAP-treated and control experiments. Bars, 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itric Oxide Inhibits Apoptosis Downstream of Cytochrome c Release by Nitrosylating Caspase 9 </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atalie J. Török, Hajime Higuchi, Steven Bronk, and Gregory J. Gore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ancer Re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62(6):1648-165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5,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199280" y="7020000"/>
            <a:ext cx="2030400" cy="40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OS inhibits etoposide-induced apoptosi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199280" y="7020000"/>
            <a:ext cx="2030400" cy="406440"/>
          </a:xfrm>
          <a:prstGeom prst="rect">
            <a:avLst/>
          </a:prstGeom>
          <a:ln w="0">
            <a:noFill/>
          </a:ln>
        </p:spPr>
      </p:pic>
      <p:pic>
        <p:nvPicPr>
          <p:cNvPr id="48" name="" descr=""/>
          <p:cNvPicPr/>
          <p:nvPr/>
        </p:nvPicPr>
        <p:blipFill>
          <a:blip r:embed="rId2"/>
          <a:stretch/>
        </p:blipFill>
        <p:spPr>
          <a:xfrm>
            <a:off x="985680" y="1079640"/>
            <a:ext cx="8114040" cy="5394240"/>
          </a:xfrm>
          <a:prstGeom prst="rect">
            <a:avLst/>
          </a:prstGeom>
          <a:ln w="0">
            <a:noFill/>
          </a:ln>
        </p:spPr>
      </p:pic>
      <p:sp>
        <p:nvSpPr>
          <p:cNvPr id="49" name=""/>
          <p:cNvSpPr/>
          <p:nvPr/>
        </p:nvSpPr>
        <p:spPr>
          <a:xfrm>
            <a:off x="985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e J. Török et al. Cancer Res 2002;62:1648-165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 inhibits caspase 9 activation in cells as assessed by caspase catalytic activity (A) and immunoblot analysis (B).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199280" y="7020000"/>
            <a:ext cx="2030400" cy="406440"/>
          </a:xfrm>
          <a:prstGeom prst="rect">
            <a:avLst/>
          </a:prstGeom>
          <a:ln w="0">
            <a:noFill/>
          </a:ln>
        </p:spPr>
      </p:pic>
      <p:pic>
        <p:nvPicPr>
          <p:cNvPr id="53" name="" descr=""/>
          <p:cNvPicPr/>
          <p:nvPr/>
        </p:nvPicPr>
        <p:blipFill>
          <a:blip r:embed="rId2"/>
          <a:stretch/>
        </p:blipFill>
        <p:spPr>
          <a:xfrm>
            <a:off x="739800" y="1901880"/>
            <a:ext cx="8604360" cy="37479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e J. Török et al. Cancer Res 2002;62:1648-165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chrome c release from mitochondria is not inhibited by NO. A, Western blot analysis was performed on cytosolic extracts of Mz-ChA-1 cells, after treating cells with 68 μm etoposide or SNAP plus etoposid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199280" y="7020000"/>
            <a:ext cx="2030400" cy="406440"/>
          </a:xfrm>
          <a:prstGeom prst="rect">
            <a:avLst/>
          </a:prstGeom>
          <a:ln w="0">
            <a:noFill/>
          </a:ln>
        </p:spPr>
      </p:pic>
      <p:pic>
        <p:nvPicPr>
          <p:cNvPr id="58" name="" descr=""/>
          <p:cNvPicPr/>
          <p:nvPr/>
        </p:nvPicPr>
        <p:blipFill>
          <a:blip r:embed="rId2"/>
          <a:stretch/>
        </p:blipFill>
        <p:spPr>
          <a:xfrm>
            <a:off x="2382840" y="1079640"/>
            <a:ext cx="5319720" cy="5394240"/>
          </a:xfrm>
          <a:prstGeom prst="rect">
            <a:avLst/>
          </a:prstGeom>
          <a:ln w="0">
            <a:noFill/>
          </a:ln>
        </p:spPr>
      </p:pic>
      <p:sp>
        <p:nvSpPr>
          <p:cNvPr id="59" name=""/>
          <p:cNvSpPr/>
          <p:nvPr/>
        </p:nvSpPr>
        <p:spPr>
          <a:xfrm>
            <a:off x="2382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e J. Török et al. Cancer Res 2002;62:1648-165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 inhibits caspase 3 and 9 activation in cytosol under cell-free conditions. a, cytosol was prepared as described previously (29) .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199280" y="7020000"/>
            <a:ext cx="2030400" cy="406440"/>
          </a:xfrm>
          <a:prstGeom prst="rect">
            <a:avLst/>
          </a:prstGeom>
          <a:ln w="0">
            <a:noFill/>
          </a:ln>
        </p:spPr>
      </p:pic>
      <p:pic>
        <p:nvPicPr>
          <p:cNvPr id="63" name="" descr=""/>
          <p:cNvPicPr/>
          <p:nvPr/>
        </p:nvPicPr>
        <p:blipFill>
          <a:blip r:embed="rId2"/>
          <a:stretch/>
        </p:blipFill>
        <p:spPr>
          <a:xfrm>
            <a:off x="2833560" y="1079640"/>
            <a:ext cx="4416480" cy="5394240"/>
          </a:xfrm>
          <a:prstGeom prst="rect">
            <a:avLst/>
          </a:prstGeom>
          <a:ln w="0">
            <a:noFill/>
          </a:ln>
        </p:spPr>
      </p:pic>
      <p:sp>
        <p:nvSpPr>
          <p:cNvPr id="64" name=""/>
          <p:cNvSpPr/>
          <p:nvPr/>
        </p:nvSpPr>
        <p:spPr>
          <a:xfrm>
            <a:off x="2833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e J. Török et al. Cancer Res 2002;62:1648-165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 directly binds to the thiol groups of procaspase 9.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199280" y="7020000"/>
            <a:ext cx="2030400" cy="406440"/>
          </a:xfrm>
          <a:prstGeom prst="rect">
            <a:avLst/>
          </a:prstGeom>
          <a:ln w="0">
            <a:noFill/>
          </a:ln>
        </p:spPr>
      </p:pic>
      <p:pic>
        <p:nvPicPr>
          <p:cNvPr id="68" name="" descr=""/>
          <p:cNvPicPr/>
          <p:nvPr/>
        </p:nvPicPr>
        <p:blipFill>
          <a:blip r:embed="rId2"/>
          <a:stretch/>
        </p:blipFill>
        <p:spPr>
          <a:xfrm>
            <a:off x="739800" y="1487520"/>
            <a:ext cx="8604360" cy="457992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alie J. Török et al. Cancer Res 2002;62:1648-165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Association for Cancer Research</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