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asurement of X chromosome copy number by single nucleotide polymorphism (SNP) array hybridization. A, the distribution of log 2 copy number signal ratios for all autosomal SNPs in DNA from XO, XX, 3X, 4X, and 5X cell lines. B–F, scatter plots of the log 2 copy number ratios (black dots, left axis) and inferred copy numbers from the dChip.SNP program (black bars, right axis) for single SNP array hybridizations of DNA from XO (B), XX (C), 3X (D), 4X (E), and 5X (F) cell lines. Comparisons are with respect to a reference of pooled normal DNA. Both Y axes are plotted against the physical position of the marker (X axis) in the genome, starting from chromosome 1 to chromosome X. Borders between the autosomal and X chromosomal SNPs are indicated by dashed vertical bars. Note that rare SNPs have extremely low hybridization signal (log2 &lt; −3) in each cell line DNA, possibly due to XbaI polymorphism or probe hybridization failure; these SNPs cannot be visualized in this grap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asurement of single-copy autosomal changes by single nucleotide polymorphism (SNP) array hybridization. Scatter plots of the log 2 copy number ratios (black dots, left axis) and inferred copy numbers from the dChip.SNP program (black bars, right axis) for single SNP array hybridizations of DNA from GM02101 and GM03236 cell lines. SNPs from each chromosome are separated by a vertical line. A, single-copy loss of chromosome 21 in cell line GM01201 (arrow). B, single-copy gain of 9pter to 9p13 in cell line GM03236 (arr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ngle nucleotide polymorphism array analysis of chromosome amplification in the NCI-H2171 small cell lung carcinoma cell line. A, copy number analysis across the autosomes and X chromosome. Regions of copy number amplification ≥7, as inferred by dChip.SNP are shown by black arrows for (B) chromosome 8, (C) chromosome 11, and (D) chromosome 12; each of these regions was validated by quantitative real-time PCR (Table 1) &lt;$REFLINK&gt; . Cytobands are indicated in the X axis for each chromoso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ngle nucleotide polymorphism array analysis of homozygous deletions in the HCC38 breast carcinoma cell line. A, copy number analysis across the autosomes and X chromosome. B and C, homozygous deletions (inferred copy number = 0) are indicated with arrows within chromosome 3 (B) and chromosome 9 (C); each of these regions was validated by quantitative real-time PCR (Table 2) &lt;$REFLINK&g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ngle nucleotide polymorphism array analysis can distinguish different genetic mechanisms that lead to loss of heterozygosity (LOH). A, different chromosomal mechanisms can cause LOH. In this cartoon, a mutated tumor suppressor gene indicated by a red star become homozygous because the remaining wild-type allele is lost by a copy-neutral event such as recombination or gene conversion (top right) or by hemizygous deletion (bottom right). B and C, LOH analysis (top left), copy number analysis (bottom left), and copy number quantitation of chromosome 13 in cell lines HCC1599 and HCC2218. In the LOH panel, yellow denotes heterozygosity (AB), whereas red (AA) and blue (BB) denote homozygosity. Note that LOH regions show heterozygous SNP markers in the normal that are reduced to homozygosity in the cell line. D and E, LOH within chromosome 9 associated with copy number loss and an interstitial homozygous deletion in NCI-H1648, contrasted with LOH and copy number maintenance in HCC118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ixing experiment shows the effect of tumor DNA content on single nucleotide polymorphism array detection of amplifications and homozygous deletions. A and B, detection of amplifications on chromosomes 11 (A) and 12 (B) in a mixture of HCC1143 tumor cell line DNA (100% to 60% to 0%) with HCC1143 BL control cell line DNA. C and D, detection of homozygous deletions in chromosome 9 (C) and chromosome 3 (D) in a mixture of HCC38 tumor cell line DNA (100% to 60% to 0%) with HCC38 BL control cell line DN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n Integrated View of Copy Number and Allelic Alterations in the Cancer Genome Using Single Nucleotide Polymorphism Array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Xiaojun Zhao, Cheng Li, J. Guillermo Paez, Koei Chin, Pasi A. Jänne, Tzu-Hsiu Chen, Luc Girard, John Minna, David Christiani, Chris Leo, Joe W. Gray, William R. Sellers, and Matthew Meyers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ancer Re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64(9):3060-307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 200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199280" y="7020000"/>
            <a:ext cx="2030400" cy="406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asurement of X chromosome copy number by single nucleotide polymorphism (SNP) array hybridiza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199280" y="7020000"/>
            <a:ext cx="2030400" cy="406440"/>
          </a:xfrm>
          <a:prstGeom prst="rect">
            <a:avLst/>
          </a:prstGeom>
          <a:ln w="0">
            <a:noFill/>
          </a:ln>
        </p:spPr>
      </p:pic>
      <p:pic>
        <p:nvPicPr>
          <p:cNvPr id="48" name="" descr=""/>
          <p:cNvPicPr/>
          <p:nvPr/>
        </p:nvPicPr>
        <p:blipFill>
          <a:blip r:embed="rId2"/>
          <a:stretch/>
        </p:blipFill>
        <p:spPr>
          <a:xfrm>
            <a:off x="2868480" y="1079640"/>
            <a:ext cx="4346640" cy="5394240"/>
          </a:xfrm>
          <a:prstGeom prst="rect">
            <a:avLst/>
          </a:prstGeom>
          <a:ln w="0">
            <a:noFill/>
          </a:ln>
        </p:spPr>
      </p:pic>
      <p:sp>
        <p:nvSpPr>
          <p:cNvPr id="49" name=""/>
          <p:cNvSpPr/>
          <p:nvPr/>
        </p:nvSpPr>
        <p:spPr>
          <a:xfrm>
            <a:off x="2868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asurement of single-copy autosomal changes by single nucleotide polymorphism (SNP) array hybridiza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199280" y="7020000"/>
            <a:ext cx="2030400" cy="406440"/>
          </a:xfrm>
          <a:prstGeom prst="rect">
            <a:avLst/>
          </a:prstGeom>
          <a:ln w="0">
            <a:noFill/>
          </a:ln>
        </p:spPr>
      </p:pic>
      <p:pic>
        <p:nvPicPr>
          <p:cNvPr id="53" name="" descr=""/>
          <p:cNvPicPr/>
          <p:nvPr/>
        </p:nvPicPr>
        <p:blipFill>
          <a:blip r:embed="rId2"/>
          <a:stretch/>
        </p:blipFill>
        <p:spPr>
          <a:xfrm>
            <a:off x="3409920" y="1079640"/>
            <a:ext cx="3267000" cy="5394240"/>
          </a:xfrm>
          <a:prstGeom prst="rect">
            <a:avLst/>
          </a:prstGeom>
          <a:ln w="0">
            <a:noFill/>
          </a:ln>
        </p:spPr>
      </p:pic>
      <p:sp>
        <p:nvSpPr>
          <p:cNvPr id="54" name=""/>
          <p:cNvSpPr/>
          <p:nvPr/>
        </p:nvSpPr>
        <p:spPr>
          <a:xfrm>
            <a:off x="3409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ngle nucleotide polymorphism array analysis of chromosome amplification in the NCI-H2171 small cell lung carcinoma cell lin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199280" y="7020000"/>
            <a:ext cx="2030400" cy="406440"/>
          </a:xfrm>
          <a:prstGeom prst="rect">
            <a:avLst/>
          </a:prstGeom>
          <a:ln w="0">
            <a:noFill/>
          </a:ln>
        </p:spPr>
      </p:pic>
      <p:pic>
        <p:nvPicPr>
          <p:cNvPr id="58" name="" descr=""/>
          <p:cNvPicPr/>
          <p:nvPr/>
        </p:nvPicPr>
        <p:blipFill>
          <a:blip r:embed="rId2"/>
          <a:stretch/>
        </p:blipFill>
        <p:spPr>
          <a:xfrm>
            <a:off x="1643040" y="1079640"/>
            <a:ext cx="6800760" cy="5394240"/>
          </a:xfrm>
          <a:prstGeom prst="rect">
            <a:avLst/>
          </a:prstGeom>
          <a:ln w="0">
            <a:noFill/>
          </a:ln>
        </p:spPr>
      </p:pic>
      <p:sp>
        <p:nvSpPr>
          <p:cNvPr id="59" name=""/>
          <p:cNvSpPr/>
          <p:nvPr/>
        </p:nvSpPr>
        <p:spPr>
          <a:xfrm>
            <a:off x="1643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ngle nucleotide polymorphism array analysis of homozygous deletions in the HCC38 breast carcinoma cell lin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199280" y="7020000"/>
            <a:ext cx="2030400" cy="406440"/>
          </a:xfrm>
          <a:prstGeom prst="rect">
            <a:avLst/>
          </a:prstGeom>
          <a:ln w="0">
            <a:noFill/>
          </a:ln>
        </p:spPr>
      </p:pic>
      <p:pic>
        <p:nvPicPr>
          <p:cNvPr id="63" name="" descr=""/>
          <p:cNvPicPr/>
          <p:nvPr/>
        </p:nvPicPr>
        <p:blipFill>
          <a:blip r:embed="rId2"/>
          <a:stretch/>
        </p:blipFill>
        <p:spPr>
          <a:xfrm>
            <a:off x="1689120" y="1079640"/>
            <a:ext cx="6707160" cy="5394240"/>
          </a:xfrm>
          <a:prstGeom prst="rect">
            <a:avLst/>
          </a:prstGeom>
          <a:ln w="0">
            <a:noFill/>
          </a:ln>
        </p:spPr>
      </p:pic>
      <p:sp>
        <p:nvSpPr>
          <p:cNvPr id="64" name=""/>
          <p:cNvSpPr/>
          <p:nvPr/>
        </p:nvSpPr>
        <p:spPr>
          <a:xfrm>
            <a:off x="1689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7199280" y="7020000"/>
            <a:ext cx="2030400" cy="406440"/>
          </a:xfrm>
          <a:prstGeom prst="rect">
            <a:avLst/>
          </a:prstGeom>
          <a:ln w="0">
            <a:noFill/>
          </a:ln>
        </p:spPr>
      </p:pic>
      <p:pic>
        <p:nvPicPr>
          <p:cNvPr id="68" name="" descr=""/>
          <p:cNvPicPr/>
          <p:nvPr/>
        </p:nvPicPr>
        <p:blipFill>
          <a:blip r:embed="rId2"/>
          <a:stretch/>
        </p:blipFill>
        <p:spPr>
          <a:xfrm>
            <a:off x="2936880" y="1079640"/>
            <a:ext cx="4211640" cy="5394240"/>
          </a:xfrm>
          <a:prstGeom prst="rect">
            <a:avLst/>
          </a:prstGeom>
          <a:ln w="0">
            <a:noFill/>
          </a:ln>
        </p:spPr>
      </p:pic>
      <p:sp>
        <p:nvSpPr>
          <p:cNvPr id="69" name=""/>
          <p:cNvSpPr/>
          <p:nvPr/>
        </p:nvSpPr>
        <p:spPr>
          <a:xfrm>
            <a:off x="2936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7199280" y="7020000"/>
            <a:ext cx="2030400" cy="406440"/>
          </a:xfrm>
          <a:prstGeom prst="rect">
            <a:avLst/>
          </a:prstGeom>
          <a:ln w="0">
            <a:noFill/>
          </a:ln>
        </p:spPr>
      </p:pic>
      <p:pic>
        <p:nvPicPr>
          <p:cNvPr id="73" name="" descr=""/>
          <p:cNvPicPr/>
          <p:nvPr/>
        </p:nvPicPr>
        <p:blipFill>
          <a:blip r:embed="rId2"/>
          <a:stretch/>
        </p:blipFill>
        <p:spPr>
          <a:xfrm>
            <a:off x="3975120" y="1079640"/>
            <a:ext cx="2133720" cy="5394240"/>
          </a:xfrm>
          <a:prstGeom prst="rect">
            <a:avLst/>
          </a:prstGeom>
          <a:ln w="0">
            <a:noFill/>
          </a:ln>
        </p:spPr>
      </p:pic>
      <p:sp>
        <p:nvSpPr>
          <p:cNvPr id="74" name=""/>
          <p:cNvSpPr/>
          <p:nvPr/>
        </p:nvSpPr>
        <p:spPr>
          <a:xfrm>
            <a:off x="3975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ngle nucleotide polymorphism array analysis can distinguish different genetic mechanisms that lead to loss of heterozygosity (LOH).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199280" y="7020000"/>
            <a:ext cx="2030400" cy="406440"/>
          </a:xfrm>
          <a:prstGeom prst="rect">
            <a:avLst/>
          </a:prstGeom>
          <a:ln w="0">
            <a:noFill/>
          </a:ln>
        </p:spPr>
      </p:pic>
      <p:pic>
        <p:nvPicPr>
          <p:cNvPr id="78" name="" descr=""/>
          <p:cNvPicPr/>
          <p:nvPr/>
        </p:nvPicPr>
        <p:blipFill>
          <a:blip r:embed="rId2"/>
          <a:stretch/>
        </p:blipFill>
        <p:spPr>
          <a:xfrm>
            <a:off x="3508200" y="1079640"/>
            <a:ext cx="3068640" cy="5394240"/>
          </a:xfrm>
          <a:prstGeom prst="rect">
            <a:avLst/>
          </a:prstGeom>
          <a:ln w="0">
            <a:noFill/>
          </a:ln>
        </p:spPr>
      </p:pic>
      <p:sp>
        <p:nvSpPr>
          <p:cNvPr id="79" name=""/>
          <p:cNvSpPr/>
          <p:nvPr/>
        </p:nvSpPr>
        <p:spPr>
          <a:xfrm>
            <a:off x="3508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ixing experiment shows the effect of tumor DNA content on single nucleotide polymorphism array detection of amplifications and homozygous deletion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7199280" y="7020000"/>
            <a:ext cx="2030400" cy="406440"/>
          </a:xfrm>
          <a:prstGeom prst="rect">
            <a:avLst/>
          </a:prstGeom>
          <a:ln w="0">
            <a:noFill/>
          </a:ln>
        </p:spPr>
      </p:pic>
      <p:pic>
        <p:nvPicPr>
          <p:cNvPr id="83" name="" descr=""/>
          <p:cNvPicPr/>
          <p:nvPr/>
        </p:nvPicPr>
        <p:blipFill>
          <a:blip r:embed="rId2"/>
          <a:stretch/>
        </p:blipFill>
        <p:spPr>
          <a:xfrm>
            <a:off x="739800" y="1488960"/>
            <a:ext cx="8604360" cy="457524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jun Zhao et al. Cancer Res 2004;64:3060-307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American Association for Cancer Research</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